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2F35-3F66-489C-A25B-67D44586E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B118-AB47-46E6-A96F-01E75062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03D1-7B02-4993-8F96-8ABC1B75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CDE2-9443-41AD-8B3C-F2309A2A1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9E25-73C7-43BD-9C6C-9D886C624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4507-394A-474E-B442-0127AB0D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F763-C921-4F64-9648-306B1E9E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86CC-77A1-40BB-80D2-E8BDAFC4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D16B-7BDB-4F3A-B2A6-1FBD5EEB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4AA4-B410-4884-82B7-18AEC0EC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C960-DA29-43EE-80A9-ACC982E9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65ED-E2E4-4FB0-AD43-5D80DDD1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BF54-8957-4C32-B949-307720B4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385F-4738-416E-AF4C-4601A25B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EDAE-4ED8-4884-B796-3D54FE0D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B955-8F43-4DC2-BF28-7ECD6298C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C1B1-B76B-455B-B488-5566322B4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DDCF-2410-49C4-B8FB-0C5D5A91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3316-9D3F-43DB-88C7-BA4693FB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9A3F-69CF-4ABF-B3ED-E88ED834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F797-0F48-4757-AB98-4DD0BDB0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53D6-3EF5-4320-B53C-56987735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09B6-E3C8-40EE-B441-B8DB8594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D99B-4CC7-4670-996D-37CB8512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055E-66BA-429C-93AE-E0BC9CF9EA5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8DAE-6F9A-40B0-BE18-ED11F4EC9DD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layer.discoveryeducation.com/index.cfm?guidAssetId=F507AE73-CF72-4077-B20C-344985D46C60&amp;blnFromSearch=1&amp;productcode=US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hapter 1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 4: Building Health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553080" y="990720"/>
            <a:ext cx="1513080" cy="17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kills for Building Social Health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you stop and think about how important your family and friends ar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are the people you spend time with and who share your interests and ide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019920" y="4952880"/>
            <a:ext cx="2666880" cy="1411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52280" y="4724280"/>
            <a:ext cx="2032200" cy="18496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657600" y="4572000"/>
            <a:ext cx="159084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istening and Talk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unication skills involve much more than being able to speak clear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also get their messages across by facial expressions, tone of voice, and choice of wor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p looking at me in that tone of voice!!!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 rot="1098000">
            <a:off x="7543440" y="5028840"/>
            <a:ext cx="112536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fusal Skill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Refusal Skills: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Ways to effectively say n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’s right? What’s wrong? What’s important to you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553080" y="4419720"/>
            <a:ext cx="1671840" cy="1558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295280" y="4267080"/>
            <a:ext cx="150840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aking a Differen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ing how to be a positive, reliable influence on someone else’s life is extremely valua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lping someone else makes you feel good about yourself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486400" y="4343400"/>
            <a:ext cx="297180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ealthy lif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Aaron's Health Go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active kids become inactive adul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ysical activity helps with academic gr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ine PE classes??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osing Questions/Review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e hygie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st 3 reliable sources for factual information related to heal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ain what values a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ELL ACTIVI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List as many health skills as you c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553080" y="3124080"/>
            <a:ext cx="1870200" cy="1889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914400" y="3124080"/>
            <a:ext cx="197172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aking Charge of Your Own Health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ing a personal wellness contract is the first step in taking charge of your own heal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ext step is to follow the pl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do that, you will need to understand and practice specific skil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96080" y="762120"/>
            <a:ext cx="103500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ink back to your health triangle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skills are important for your physical heal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s will help improve your mental/emotional health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ll others will enhance your social heal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 rot="358800">
            <a:off x="6553080" y="4724280"/>
            <a:ext cx="1395360" cy="18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kills for Building Physical Health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ting well and staying f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tting enough r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ying sa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Hygiene: Cleanli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3098520" cy="2316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 rot="561600">
            <a:off x="6705360" y="304920"/>
            <a:ext cx="2087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kills for Building Mental and Emotional Health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ing your self… Get into the habit of HONEST self-assess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stand that everyone – including you, makes mistake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those mistakes in a positive way – to learn, grow, and chan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58000" y="5257800"/>
            <a:ext cx="2016000" cy="1346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191120" y="5334120"/>
            <a:ext cx="1508040" cy="1044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04920" y="5105520"/>
            <a:ext cx="167796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w to Find the Facts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fer to Figure 1.6 on page 2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ealthy Attitu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Self-management skill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the ability to take care of your overall health and to take control of your behavior and a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rt building self-management skills by learning to like and accept yourself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1832040" cy="2071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28600" y="5181480"/>
            <a:ext cx="228600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ake Responsibility! P. 22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ing responsible means taking char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also means making decisions that uphold your valu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Values: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the beliefs that guide the way a person lives, such as beliefs about what is right and wrong and what is most importa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315200" y="1523880"/>
            <a:ext cx="1341360" cy="13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5:59:19Z</dcterms:created>
  <dc:creator>GSCS</dc:creator>
  <dc:description/>
  <dc:language>en-US</dc:language>
  <cp:lastModifiedBy>GSCS</cp:lastModifiedBy>
  <dcterms:modified xsi:type="dcterms:W3CDTF">2011-01-19T14:08:11Z</dcterms:modified>
  <cp:revision>13</cp:revision>
  <dc:subject/>
  <dc:title>Chapter 1</dc:title>
</cp:coreProperties>
</file>